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pu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1EC-0CE2-4B52-8A3A-CE0F9ABF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D1C-0DEB-4B87-AA33-4CBB959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5C3-06FA-4E36-9AF5-F654E6D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D29-43A0-4FD6-B32B-EBCDB732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2502-9869-4CE9-A09D-5F6B9B6E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C9C-2485-4F37-BB8D-E565CF3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B4D-24A3-4604-ADA6-AFB5373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CF52-0424-4977-81D5-5D556EBD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92D1-9C24-43E7-8CFE-BDC422F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B51C-5BAA-4140-82CD-1C289C4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CCCE-97BA-427D-8C55-9B7F325F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72F-C41C-4E3E-AB28-85D4AEF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E45-5DE8-49EF-8CDE-0F1ABF6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2426-DB7F-40AB-A13D-BF1E51E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F94-D02B-45AA-89DB-2ACF719E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8A4-C728-493D-9448-953768C6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91BF-559C-440B-B036-DD2B9A7A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7521-A4AD-4B58-A819-AF50569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6B1F-FC64-4C3D-B04A-D63E24B9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2EE2-EA5F-4324-BCF8-5ED27FCC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2F41-0893-4764-ABFC-26E2CF6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039F-D4C4-47FD-AA1F-0BA8D6E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704-256D-4D72-AD2C-778ACEF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C8FE-63DB-468D-A83E-D648CC2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D343-ED69-4115-B0F0-A437655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5B4A-B8C2-485C-8BF3-EB6D4AC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5580-D897-44E1-B75A-3AE9776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EB20-CD99-4E58-9911-32535C6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70BC-5C8C-41F3-8268-407D8C69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9449-F286-4A41-9DCA-5294865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3DE7-0048-43D1-A28D-498EF54A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F472-3194-40DA-A9E0-21DC168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93E5-85D9-4CD4-9FBC-777CF02A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F81-EACD-449F-8DDC-32EBE42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820E-471F-46DC-AA6B-063902CC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42D3-E0AE-4FD8-B149-E97A780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0A13-4649-4A67-9BAE-560A491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1261-0B5C-4AB6-B714-10B644D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6055-B20E-4ACB-8DA4-D463708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1C3F-75AA-436F-BA21-53F4EF25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1907-910D-461A-95CD-36A83B8D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025F-BFBB-4E87-A20D-536765F8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4C2E-BD0D-447D-90FD-E41DE10F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0A46-D457-4B09-9369-D365A560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307-6916-426E-A14D-DC5CD62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2582-AA2C-40E7-9402-616B5F5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26D1-3B7D-4085-A59D-2AC4CC1C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A10F-50CF-481B-BF4F-A1C5147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70D0-FF0A-487E-B81F-7EFD89C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AC25-05E1-4CD0-980F-37AE3769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1989-A764-49DF-A239-EC9D8A0B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1A68-F57C-46FA-8C61-2546C44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6B3F-7BB6-4DDB-A7A5-8A143C5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A1DB-0179-4CC9-93A8-F567CB4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656D-AE56-438E-BC41-472D61F9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4B3-5DEE-4CBF-8821-5891C37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A9E0-92FC-4372-A23F-9839A478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0934-1ED0-4D8E-9947-2152C92B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9C80-5E2A-4786-B5D2-D6639F4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257C-0DBC-40FC-9826-3585D0C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C22F-4B34-4971-B156-E0A6C55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42AB-064F-4287-9CCA-8F29D10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E19D-CB1E-450F-942F-CA77025E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21BC-B885-4B80-9F4B-38F9B94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11BC-7DBD-4C73-BB80-62F7D44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B4CB-6FF2-43E0-BD24-CD62826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339-BC84-4FC4-8302-34175F5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A759-238D-44BA-9900-4EBB5919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03952-91F7-481C-972D-E7DDB64C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B655-4FD5-42DC-A72A-875A83D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2F80C-CD9F-468E-8FDC-4359BE54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90C0-6279-4705-9EA9-342F1DB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7213-16D0-4FDA-A86A-0ACBAA0D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8382-4D85-44EE-822D-A09FFB90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9318A-3539-4F91-B4C6-C8CF7476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03A8-0046-42B2-BA44-010AF88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B31E1-F9C0-4286-9975-62ED259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DF3-214F-4100-9733-9AFD701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293F-1DD4-4D56-B17D-31AABEF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15B3B-DEC3-4F59-87C7-942DBB0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CC1D-9CF4-413C-A91B-8E65846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0580-EA6E-48FC-ABDC-0D2B4699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FC01E-0447-4447-9150-8A52D0C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C21C-C9E2-4D9E-8A27-64EDCCB0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54E24-834F-44C5-B05C-59A8568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A6D2-EBC3-431F-A459-7DE4309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1276-B14A-4A39-AB06-A164E0E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BF5A-0F02-4EEE-955A-E2E3AF9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167-F26E-4CEC-B48D-9E46115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506F-0102-47D4-A33B-B9E30B81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034B-441A-42EE-A0F6-6BE3C64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9CD4-9C6A-473A-974D-218E7AC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C61C9-8B74-4B8B-9BB4-6F94F1F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87DF-4883-4225-ABE0-F05F53B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1CB2-B193-471E-AE67-44039090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89C8A-A5B4-460A-A4F8-E7C138BF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BE2-CD99-482E-A103-52EB4341B9C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DC5-5C12-4CF3-A313-102EE3812C6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7D9-1FC6-4864-9A7A-88EC15C4ABB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0CE-20D2-43F6-A9A1-0A2D53C2E1E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167-64F6-427B-AD53-F3893172CE8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E47F-6ECB-44AD-9092-0D2992DE160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6ED-54C7-4F17-9496-119F349650DD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64F-FD97-4267-AFC6-20AD000027C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6"/>
          <p:cNvSpPr txBox="1"/>
          <p:nvPr/>
        </p:nvSpPr>
        <p:spPr>
          <a:xfrm>
            <a:off x="0" y="17002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 дается один ра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3" name="TextBox 4" descr=""/>
          <p:cNvPicPr/>
          <p:nvPr/>
        </p:nvPicPr>
        <p:blipFill>
          <a:blip r:embed="rId1"/>
          <a:stretch/>
        </p:blipFill>
        <p:spPr>
          <a:xfrm>
            <a:off x="579600" y="3486240"/>
            <a:ext cx="507204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6000840" y="414324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хакян Земфиир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2428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ая статистика в отношении наркомании очень тревожна. В течение последних 6 лет распространенность наркомании среди подростков увеличилась в 10 раз, число больных подростков в Санкт-Петербурге в 1,8 раза выше, чем в России и в 2,6 раза выше, чем в Москве. Тенденция увеличения наркотических заболеваний заставляет все большее число родителей опасаться того, что тема наркотиков станет ужасной реальностью в их семье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684360" y="260280"/>
            <a:ext cx="794196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ет-наркотикам"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0">
    <p:circle/>
    <p:sndAc>
      <p:stSnd>
        <p:snd r:embed="rId1" name="pu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7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mbria"/>
              </a:rPr>
              <a:t>О вреде наркотиков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19520" y="3276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133720" y="2362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838080" y="4724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447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1523880" y="914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7" name="Line 10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9" name="Line 12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коноп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Picture 4" descr="HM00250_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572000" y="270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376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377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384" name="Picture 20" descr="j0234673"/>
          <p:cNvPicPr/>
          <p:nvPr/>
        </p:nvPicPr>
        <p:blipFill>
          <a:blip r:embed="rId3"/>
          <a:stretch/>
        </p:blipFill>
        <p:spPr>
          <a:xfrm>
            <a:off x="500364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1" descr="j0234734"/>
          <p:cNvPicPr/>
          <p:nvPr/>
        </p:nvPicPr>
        <p:blipFill>
          <a:blip r:embed="rId4"/>
          <a:stretch/>
        </p:blipFill>
        <p:spPr>
          <a:xfrm>
            <a:off x="2843280" y="5445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86" name="Line 22"/>
          <p:cNvSpPr/>
          <p:nvPr/>
        </p:nvSpPr>
        <p:spPr>
          <a:xfrm>
            <a:off x="558000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788000" y="53928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tencil"/>
              </a:rPr>
              <a:t>Снижение памяти, интеллекта, нарушение внимания, мышле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7885080" y="342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236000" y="443700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Организм магнит для всех болезней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опиатных наркотик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392" name="Line 3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98" name="Text Box 9"/>
          <p:cNvSpPr/>
          <p:nvPr/>
        </p:nvSpPr>
        <p:spPr>
          <a:xfrm>
            <a:off x="228600" y="3733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532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1752480" y="30481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03" name="Picture 14" descr="HM00302_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легки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скелет3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8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Cambria"/>
              </a:rPr>
              <a:t>Употребление психостимуляторов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08" name="Group 13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409" name="Line 3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19" name="Picture 14" descr="сердце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420" name="Line 15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1" name="Line 16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галлюциноген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426" name="Line 3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38" name="Picture 16" descr="голмозг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7" descr="печень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ЛНД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41" name="Group 16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442" name="Line 3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5" name="Line 6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60" name="Picture 22" descr="пневмония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голмозг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печень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FuckYouBill</cp:lastModifiedBy>
  <dcterms:modified xsi:type="dcterms:W3CDTF">2010-01-25T15:40:25Z</dcterms:modified>
  <cp:revision>24</cp:revision>
  <dc:subject/>
  <dc:title>Жизнь дается один раз</dc:title>
</cp:coreProperties>
</file>